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C2EA-B153-4064-8237-F8934403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D0F-CA38-4FFA-A62B-A414FE1A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5E1B-DAFA-4DAA-B627-BBF2C7B3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C0D-6DB5-4962-A27A-2773D7AD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57F7-EEB4-4ACC-B5BC-811C08FF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324-79F0-4243-B716-02817410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3E95-A192-43D1-B602-C496CF04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392-24E7-4BB8-888D-7868A2E3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09480" y="49500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671-A092-42AA-A40E-6405D9D4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2B50-3ED1-4DB5-8E4B-6DFC09E9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84B-D5E3-4E68-A980-3D58D0EC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5A8-9FA8-4149-AC7F-0EBBB177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E1E5-80C1-4F07-A87B-98E5E17DF7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57200" y="357120"/>
            <a:ext cx="8231040" cy="1459080"/>
            <a:chOff x="457200" y="357120"/>
            <a:chExt cx="8231040" cy="1459080"/>
          </a:xfrm>
        </p:grpSpPr>
        <p:sp>
          <p:nvSpPr>
            <p:cNvPr id="4" name=""/>
            <p:cNvSpPr/>
            <p:nvPr/>
          </p:nvSpPr>
          <p:spPr>
            <a:xfrm>
              <a:off x="457200" y="366840"/>
              <a:ext cx="136440" cy="1449360"/>
            </a:xfrm>
            <a:custGeom>
              <a:avLst/>
              <a:gdLst/>
              <a:ahLst/>
              <a:rect l="l" t="t" r="r" b="b"/>
              <a:pathLst>
                <a:path w="86" h="913">
                  <a:moveTo>
                    <a:pt x="0" y="0"/>
                  </a:moveTo>
                  <a:lnTo>
                    <a:pt x="85" y="96"/>
                  </a:lnTo>
                  <a:lnTo>
                    <a:pt x="85" y="816"/>
                  </a:ln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550360" y="357120"/>
              <a:ext cx="137880" cy="1444680"/>
            </a:xfrm>
            <a:custGeom>
              <a:avLst/>
              <a:gdLst/>
              <a:ahLst/>
              <a:rect l="l" t="t" r="r" b="b"/>
              <a:pathLst>
                <a:path w="87" h="910">
                  <a:moveTo>
                    <a:pt x="86" y="0"/>
                  </a:moveTo>
                  <a:lnTo>
                    <a:pt x="0" y="93"/>
                  </a:lnTo>
                  <a:lnTo>
                    <a:pt x="0" y="813"/>
                  </a:lnTo>
                  <a:lnTo>
                    <a:pt x="86" y="909"/>
                  </a:lnTo>
                  <a:lnTo>
                    <a:pt x="86" y="0"/>
                  </a:lnTo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361800"/>
              <a:ext cx="8231040" cy="163800"/>
            </a:xfrm>
            <a:custGeom>
              <a:avLst/>
              <a:gdLst/>
              <a:ahLst/>
              <a:rect l="l" t="t" r="r" b="b"/>
              <a:pathLst>
                <a:path w="5185" h="103">
                  <a:moveTo>
                    <a:pt x="0" y="0"/>
                  </a:moveTo>
                  <a:lnTo>
                    <a:pt x="5184" y="3"/>
                  </a:lnTo>
                  <a:lnTo>
                    <a:pt x="5093" y="102"/>
                  </a:lnTo>
                  <a:lnTo>
                    <a:pt x="88" y="102"/>
                  </a:lnTo>
                  <a:lnTo>
                    <a:pt x="0" y="0"/>
                  </a:lnTo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457200" y="1343160"/>
            <a:ext cx="125280" cy="5197320"/>
          </a:xfrm>
          <a:custGeom>
            <a:avLst/>
            <a:gdLst/>
            <a:ahLst/>
            <a:rect l="l" t="t" r="r" b="b"/>
            <a:pathLst>
              <a:path w="79" h="3274">
                <a:moveTo>
                  <a:pt x="0" y="0"/>
                </a:moveTo>
                <a:lnTo>
                  <a:pt x="78" y="107"/>
                </a:lnTo>
                <a:lnTo>
                  <a:pt x="78" y="3166"/>
                </a:lnTo>
                <a:lnTo>
                  <a:pt x="0" y="3273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50360" y="1247760"/>
            <a:ext cx="133200" cy="5278320"/>
          </a:xfrm>
          <a:custGeom>
            <a:avLst/>
            <a:gdLst/>
            <a:ahLst/>
            <a:rect l="l" t="t" r="r" b="b"/>
            <a:pathLst>
              <a:path w="84" h="3325">
                <a:moveTo>
                  <a:pt x="83" y="0"/>
                </a:moveTo>
                <a:lnTo>
                  <a:pt x="3" y="109"/>
                </a:lnTo>
                <a:lnTo>
                  <a:pt x="0" y="3233"/>
                </a:lnTo>
                <a:lnTo>
                  <a:pt x="83" y="3324"/>
                </a:lnTo>
                <a:lnTo>
                  <a:pt x="83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6386400"/>
            <a:ext cx="8231040" cy="139680"/>
          </a:xfrm>
          <a:custGeom>
            <a:avLst/>
            <a:gdLst/>
            <a:ahLst/>
            <a:rect l="l" t="t" r="r" b="b"/>
            <a:pathLst>
              <a:path w="5185" h="88">
                <a:moveTo>
                  <a:pt x="0" y="87"/>
                </a:moveTo>
                <a:lnTo>
                  <a:pt x="5184" y="87"/>
                </a:lnTo>
                <a:lnTo>
                  <a:pt x="5095" y="0"/>
                </a:lnTo>
                <a:lnTo>
                  <a:pt x="89" y="0"/>
                </a:lnTo>
                <a:lnTo>
                  <a:pt x="0" y="87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92200" y="523800"/>
            <a:ext cx="7958160" cy="58579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71600" y="2286000"/>
            <a:ext cx="6248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rnard MT Condensed"/>
              </a:rPr>
              <a:t>Chapter 1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rnard MT Condensed"/>
              </a:rPr>
              <a:t>Acids and Bas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H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H= -log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sed because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is usually very smal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s pH decreases,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increases exponentiall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g figs only the digits after the decimal place of a pH are significan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= 1.0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8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pH= 8.00   2 sig fig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OH= -log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Ka = -log K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lationsh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;  pH= -log[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=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ook Antiqua"/>
              </a:rPr>
              <a:t>-pH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log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-log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+ -log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pH + pOH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1.0 x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1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4.00 = pH + pOH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,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,pH and pOH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Given any one of these we can find the other thre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467480" y="2971800"/>
            <a:ext cx="129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Bas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971800"/>
            <a:ext cx="1752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Acid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2971800"/>
            <a:ext cx="167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2438640" y="380880"/>
            <a:ext cx="14022360" cy="1981800"/>
            <a:chOff x="-2438640" y="380880"/>
            <a:chExt cx="14022360" cy="1981800"/>
          </a:xfrm>
        </p:grpSpPr>
        <p:grpSp>
          <p:nvGrpSpPr>
            <p:cNvPr id="95" name=""/>
            <p:cNvGrpSpPr/>
            <p:nvPr/>
          </p:nvGrpSpPr>
          <p:grpSpPr>
            <a:xfrm>
              <a:off x="800280" y="1295280"/>
              <a:ext cx="7886520" cy="1067400"/>
              <a:chOff x="800280" y="1295280"/>
              <a:chExt cx="7886520" cy="1067400"/>
            </a:xfrm>
          </p:grpSpPr>
          <p:sp>
            <p:nvSpPr>
              <p:cNvPr id="96" name=""/>
              <p:cNvSpPr/>
              <p:nvPr/>
            </p:nvSpPr>
            <p:spPr>
              <a:xfrm>
                <a:off x="800280" y="1295280"/>
                <a:ext cx="76176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afd00"/>
                    </a:solidFill>
                    <a:latin typeface="Book Antiqua"/>
                  </a:rPr>
                  <a:t>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562040" y="1295280"/>
                <a:ext cx="9144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afd00"/>
                    </a:solidFill>
                    <a:latin typeface="Book Antiqua"/>
                  </a:rPr>
                  <a:t>-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52760" y="1295280"/>
                <a:ext cx="9144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afd00"/>
                    </a:solidFill>
                    <a:latin typeface="Book Antiqua"/>
                  </a:rPr>
                  <a:t>-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390840" y="1295280"/>
                <a:ext cx="838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afd00"/>
                    </a:solidFill>
                    <a:latin typeface="Book Antiqua"/>
                  </a:rPr>
                  <a:t>-5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267080" y="1295280"/>
                <a:ext cx="838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afd00"/>
                    </a:solidFill>
                    <a:latin typeface="Book Antiqua"/>
                  </a:rPr>
                  <a:t>-7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67360" y="1295280"/>
                <a:ext cx="8380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afd00"/>
                    </a:solidFill>
                    <a:latin typeface="Book Antiqua"/>
                  </a:rPr>
                  <a:t>-9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67280" y="1295280"/>
                <a:ext cx="9907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afd00"/>
                    </a:solidFill>
                    <a:latin typeface="Book Antiqua"/>
                  </a:rPr>
                  <a:t>-1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19840" y="1295280"/>
                <a:ext cx="9907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afd00"/>
                    </a:solidFill>
                    <a:latin typeface="Book Antiqua"/>
                  </a:rPr>
                  <a:t>-1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96080" y="1295280"/>
                <a:ext cx="9907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afd00"/>
                    </a:solidFill>
                    <a:latin typeface="Book Antiqua"/>
                  </a:rPr>
                  <a:t>-14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038480" y="380880"/>
              <a:ext cx="1295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[H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Book Antiqua"/>
                </a:rPr>
                <a:t>+</a:t>
              </a: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]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-2438640" y="459000"/>
              <a:ext cx="14022360" cy="1218600"/>
              <a:chOff x="-2438640" y="459000"/>
              <a:chExt cx="14022360" cy="121860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-2438640" y="459000"/>
                <a:ext cx="7010280" cy="1218600"/>
                <a:chOff x="-2438640" y="459000"/>
                <a:chExt cx="7010280" cy="12186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-2438640" y="459000"/>
                  <a:ext cx="70102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59" y="9855"/>
                      </a:moveTo>
                      <a:arcTo wR="10800" hR="10800" stAng="-301261" swAng="570126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59" y="9855"/>
                      </a:moveTo>
                      <a:arcTo wR="10800" hR="10800" stAng="-301261" swAng="5701261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34960" y="1220760"/>
                  <a:ext cx="10666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8976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89769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4573440" y="459000"/>
                <a:ext cx="7010280" cy="1218600"/>
                <a:chOff x="4573440" y="459000"/>
                <a:chExt cx="7010280" cy="12186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573440" y="459000"/>
                  <a:ext cx="70102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7011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701124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545600" y="1220760"/>
                  <a:ext cx="106632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68" y="0"/>
                      </a:moveTo>
                      <a:arcTo wR="10800" hR="10800" stAng="-5410231" swAng="54102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68" y="0"/>
                      </a:moveTo>
                      <a:arcTo wR="10800" hR="10800" stAng="-5410231" swAng="5410231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3" name=""/>
          <p:cNvGrpSpPr/>
          <p:nvPr/>
        </p:nvGrpSpPr>
        <p:grpSpPr>
          <a:xfrm>
            <a:off x="-2362320" y="1600200"/>
            <a:ext cx="14022360" cy="1981800"/>
            <a:chOff x="-2362320" y="1600200"/>
            <a:chExt cx="14022360" cy="1981800"/>
          </a:xfrm>
        </p:grpSpPr>
        <p:sp>
          <p:nvSpPr>
            <p:cNvPr id="114" name=""/>
            <p:cNvSpPr/>
            <p:nvPr/>
          </p:nvSpPr>
          <p:spPr>
            <a:xfrm>
              <a:off x="990720" y="2514600"/>
              <a:ext cx="380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Book Antiqua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28800" y="2514600"/>
              <a:ext cx="380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Book Antiqua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19520" y="2514600"/>
              <a:ext cx="380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Book Antiqua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19440" y="2514600"/>
              <a:ext cx="381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Book Antiqua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95680" y="2514600"/>
              <a:ext cx="381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Book Antiqua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5960" y="2514600"/>
              <a:ext cx="380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Book Antiqua"/>
                </a:rPr>
                <a:t>9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58080" y="2514600"/>
              <a:ext cx="609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Book Antiqua"/>
                </a:rPr>
                <a:t>1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10280" y="2514600"/>
              <a:ext cx="60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Book Antiqua"/>
                </a:rPr>
                <a:t>1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86880" y="2514600"/>
              <a:ext cx="609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Book Antiqua"/>
                </a:rPr>
                <a:t>14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-2362320" y="1751400"/>
              <a:ext cx="14022360" cy="1218600"/>
              <a:chOff x="-2362320" y="1751400"/>
              <a:chExt cx="14022360" cy="121860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-2362320" y="1751400"/>
                <a:ext cx="7010280" cy="1218600"/>
                <a:chOff x="-2362320" y="1751400"/>
                <a:chExt cx="7010280" cy="12186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-2362320" y="1751400"/>
                  <a:ext cx="70102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59" y="9855"/>
                      </a:moveTo>
                      <a:arcTo wR="10800" hR="10800" stAng="-301261" swAng="570126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59" y="9855"/>
                      </a:moveTo>
                      <a:arcTo wR="10800" hR="10800" stAng="-301261" swAng="5701261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11280" y="2513160"/>
                  <a:ext cx="106596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8976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89769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649760" y="1751400"/>
                <a:ext cx="7010280" cy="1218600"/>
                <a:chOff x="4649760" y="1751400"/>
                <a:chExt cx="7010280" cy="12186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649760" y="1751400"/>
                  <a:ext cx="70102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7011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701124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621560" y="2513160"/>
                  <a:ext cx="106632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68" y="0"/>
                      </a:moveTo>
                      <a:arcTo wR="10800" hR="10800" stAng="-5410231" swAng="54102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68" y="0"/>
                      </a:moveTo>
                      <a:arcTo wR="10800" hR="10800" stAng="-5410231" swAng="5410231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" name=""/>
            <p:cNvSpPr/>
            <p:nvPr/>
          </p:nvSpPr>
          <p:spPr>
            <a:xfrm>
              <a:off x="4267080" y="1600200"/>
              <a:ext cx="1295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pH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-2513880" y="4952880"/>
            <a:ext cx="14020920" cy="1418400"/>
            <a:chOff x="-2513880" y="4952880"/>
            <a:chExt cx="14020920" cy="1418400"/>
          </a:xfrm>
        </p:grpSpPr>
        <p:grpSp>
          <p:nvGrpSpPr>
            <p:cNvPr id="132" name=""/>
            <p:cNvGrpSpPr/>
            <p:nvPr/>
          </p:nvGrpSpPr>
          <p:grpSpPr>
            <a:xfrm>
              <a:off x="609480" y="4952880"/>
              <a:ext cx="7886520" cy="1067400"/>
              <a:chOff x="609480" y="4952880"/>
              <a:chExt cx="7886520" cy="106740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3886200" y="4952880"/>
                <a:ext cx="12952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279f"/>
                    </a:solidFill>
                    <a:latin typeface="Book Antiqua"/>
                  </a:rPr>
                  <a:t>Basic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7733520" y="4952880"/>
                <a:ext cx="762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fffff"/>
                    </a:solidFill>
                    <a:latin typeface="Book Antiqua"/>
                  </a:rPr>
                  <a:t>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6781680" y="4952880"/>
                <a:ext cx="9144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fffff"/>
                    </a:solidFill>
                    <a:latin typeface="Book Antiqua"/>
                  </a:rPr>
                  <a:t>-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5829480" y="4952880"/>
                <a:ext cx="9144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fffff"/>
                    </a:solidFill>
                    <a:latin typeface="Book Antiqua"/>
                  </a:rPr>
                  <a:t>-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990320" y="4952880"/>
                <a:ext cx="838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fffff"/>
                    </a:solidFill>
                    <a:latin typeface="Book Antiqua"/>
                  </a:rPr>
                  <a:t>-5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191120" y="4952880"/>
                <a:ext cx="8380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fffff"/>
                    </a:solidFill>
                    <a:latin typeface="Book Antiqua"/>
                  </a:rPr>
                  <a:t>-7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3314880" y="4952880"/>
                <a:ext cx="8380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fffff"/>
                    </a:solidFill>
                    <a:latin typeface="Book Antiqua"/>
                  </a:rPr>
                  <a:t>-9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438280" y="4952880"/>
                <a:ext cx="9907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fffff"/>
                    </a:solidFill>
                    <a:latin typeface="Book Antiqua"/>
                  </a:rPr>
                  <a:t>-1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447200" y="4952880"/>
                <a:ext cx="99036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fffff"/>
                    </a:solidFill>
                    <a:latin typeface="Book Antiqua"/>
                  </a:rPr>
                  <a:t>-1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609480" y="4952880"/>
                <a:ext cx="9907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0</a:t>
                </a:r>
                <a:r>
                  <a:rPr b="0" lang="en-US" sz="3200" spc="-1" strike="noStrike" baseline="30000">
                    <a:solidFill>
                      <a:srgbClr val="ffffff"/>
                    </a:solidFill>
                    <a:latin typeface="Book Antiqua"/>
                  </a:rPr>
                  <a:t>-14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4114800" y="5791320"/>
              <a:ext cx="1295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[OH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Book Antiqua"/>
                </a:rPr>
                <a:t>-</a:t>
              </a: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]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-2513880" y="4994280"/>
              <a:ext cx="14020920" cy="1220400"/>
              <a:chOff x="-2513880" y="4994280"/>
              <a:chExt cx="14020920" cy="122040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-2513880" y="4994280"/>
                <a:ext cx="7009200" cy="1220400"/>
                <a:chOff x="-2513880" y="4994280"/>
                <a:chExt cx="7009200" cy="12204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-2513880" y="5452920"/>
                  <a:ext cx="7009200" cy="76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869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86983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58640" y="4994280"/>
                  <a:ext cx="10666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7480" y="4994280"/>
                <a:ext cx="7009560" cy="1220400"/>
                <a:chOff x="4497480" y="4994280"/>
                <a:chExt cx="7009560" cy="12204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7480" y="5452920"/>
                  <a:ext cx="7009560" cy="76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8" y="11700"/>
                      </a:moveTo>
                      <a:arcTo wR="10800" hR="10800" stAng="10513147" swAng="568529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8" y="11700"/>
                      </a:moveTo>
                      <a:arcTo wR="10800" hR="10800" stAng="10513147" swAng="5685296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467480" y="4994280"/>
                  <a:ext cx="10666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1" name=""/>
          <p:cNvGrpSpPr/>
          <p:nvPr/>
        </p:nvGrpSpPr>
        <p:grpSpPr>
          <a:xfrm>
            <a:off x="-2438280" y="3505320"/>
            <a:ext cx="14022000" cy="1494360"/>
            <a:chOff x="-2438280" y="3505320"/>
            <a:chExt cx="14022000" cy="1494360"/>
          </a:xfrm>
        </p:grpSpPr>
        <p:grpSp>
          <p:nvGrpSpPr>
            <p:cNvPr id="152" name=""/>
            <p:cNvGrpSpPr/>
            <p:nvPr/>
          </p:nvGrpSpPr>
          <p:grpSpPr>
            <a:xfrm>
              <a:off x="799920" y="3505320"/>
              <a:ext cx="7505640" cy="1067400"/>
              <a:chOff x="799920" y="3505320"/>
              <a:chExt cx="7505640" cy="1067400"/>
            </a:xfrm>
          </p:grpSpPr>
          <p:sp>
            <p:nvSpPr>
              <p:cNvPr id="153" name=""/>
              <p:cNvSpPr/>
              <p:nvPr/>
            </p:nvSpPr>
            <p:spPr>
              <a:xfrm flipH="1">
                <a:off x="7923960" y="3505320"/>
                <a:ext cx="3812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7047720" y="3505320"/>
                <a:ext cx="3812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095160" y="3505320"/>
                <a:ext cx="3812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5218920" y="3505320"/>
                <a:ext cx="3812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5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4419720" y="3505320"/>
                <a:ext cx="3808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7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3543480" y="3505320"/>
                <a:ext cx="3808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9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628360" y="3505320"/>
                <a:ext cx="6094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1637640" y="3505320"/>
                <a:ext cx="6094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3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799560" y="3505320"/>
                <a:ext cx="6094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Book Antiqua"/>
                  </a:rPr>
                  <a:t>14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-2438280" y="3622680"/>
              <a:ext cx="14022000" cy="1220400"/>
              <a:chOff x="-2438280" y="3622680"/>
              <a:chExt cx="14022000" cy="122040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-2438280" y="3622680"/>
                <a:ext cx="7009920" cy="1220400"/>
                <a:chOff x="-2438280" y="3622680"/>
                <a:chExt cx="7009920" cy="12204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-2438280" y="4081320"/>
                  <a:ext cx="7009920" cy="76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869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86983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34960" y="3622680"/>
                  <a:ext cx="10666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573440" y="3622680"/>
                <a:ext cx="7010280" cy="1220400"/>
                <a:chOff x="4573440" y="3622680"/>
                <a:chExt cx="7010280" cy="12204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573440" y="4081320"/>
                  <a:ext cx="7010280" cy="76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8" y="11700"/>
                      </a:moveTo>
                      <a:arcTo wR="10800" hR="10800" stAng="10513147" swAng="568529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8" y="11700"/>
                      </a:moveTo>
                      <a:arcTo wR="10800" hR="10800" stAng="10513147" swAng="5685296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544160" y="3622680"/>
                  <a:ext cx="106596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>
              <a:off x="4191120" y="4419720"/>
              <a:ext cx="1295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pOH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pH of Solu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lways write down the major ions in solu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member these are equilibria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member the chemistry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on’t try to memorize there is no one way to do thi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ong Acid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Br, HI, HCl, H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,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, HCl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mpletely dissociat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= [HA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is going to be small because of equilibriu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1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[HA]&lt;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7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water contributes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ak Acid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a will be small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t will be an equilibrium problem from the star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termine whether most of the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will come from the acid or the wate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mpare Ka or Kw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st is just like equilibrium problem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the pH of 2.0 M acetic acid H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with a Ka 1.8 x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5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pOH, 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,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 mixture of Weak Acid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process is the sam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termine the major speci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stronger will predominat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igger Ka if concentrations are comparab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the pH of a mixture 1.0 M HF (Ka = 7.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and 1.0 M HO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(Ka = 1.6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10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71500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ok Antiqua"/>
              </a:rPr>
              <a:t>P705#6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rcent dissoci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    amount dissociated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x 100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initial concentra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r a weak acid percent dissociation increases as acid becomes more dilut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s [HA]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decreases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decreases but % dissociation increas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 Chateli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rrhenius Defini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cids produce hydrogen ions in aqueous solu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ses produce hydroxide ions when dissolved in wate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imited to aqueous solution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nly one kind of bas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ammonia could not be an Arrhenius bas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the % dissociation of  1.00 M 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and .00100 M Acetic acid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(Ka = 1.8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5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s a strong base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ydroxides of the alkali metals are strong bases because they dissociate completely when dissolve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hydroxides of alkaline earths Ca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etc. are strong dibasic bases,  but they don’t dissolve well in wate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sed as antacids because 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can’t build up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ses without OH</a:t>
            </a:r>
            <a:r>
              <a:rPr b="0" lang="en-US" sz="5400" spc="-1" strike="noStrike" baseline="30000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en-US" sz="5400" spc="-1" strike="noStrike" baseline="-25000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ses are proton acceptor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+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t is the lone pair on nitrogen that accepts the prot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ny weak bases  contain  Nitroge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(aq)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(l)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B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(aq)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+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(aq)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 = [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][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  [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] 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429000" y="1920960"/>
            <a:ext cx="839880" cy="442800"/>
            <a:chOff x="3429000" y="1920960"/>
            <a:chExt cx="839880" cy="442800"/>
          </a:xfrm>
        </p:grpSpPr>
        <p:sp>
          <p:nvSpPr>
            <p:cNvPr id="192" name=""/>
            <p:cNvSpPr/>
            <p:nvPr/>
          </p:nvSpPr>
          <p:spPr>
            <a:xfrm>
              <a:off x="3429000" y="192096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528" y="96"/>
                  </a:lnTo>
                  <a:lnTo>
                    <a:pt x="384" y="0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29000" y="220968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52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809880" y="4130640"/>
            <a:ext cx="839880" cy="442800"/>
            <a:chOff x="3809880" y="4130640"/>
            <a:chExt cx="839880" cy="442800"/>
          </a:xfrm>
        </p:grpSpPr>
        <p:sp>
          <p:nvSpPr>
            <p:cNvPr id="195" name=""/>
            <p:cNvSpPr/>
            <p:nvPr/>
          </p:nvSpPr>
          <p:spPr>
            <a:xfrm>
              <a:off x="3809880" y="413064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528" y="96"/>
                  </a:lnTo>
                  <a:lnTo>
                    <a:pt x="384" y="0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09880" y="4419720"/>
              <a:ext cx="839880" cy="15372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52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905120" y="5334120"/>
            <a:ext cx="251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197240" y="4502160"/>
            <a:ext cx="1511280" cy="1282680"/>
          </a:xfrm>
          <a:prstGeom prst="hexagon">
            <a:avLst>
              <a:gd name="adj" fmla="val 29450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ength of Ba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5029200"/>
            <a:ext cx="533520" cy="3049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4120" y="4800600"/>
            <a:ext cx="685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ydroxides are strong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thers are weak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maller 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weaker bas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the pH of a solution of 4.0 M pyridine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Kb = 1.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9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"/>
          <p:cNvSpPr/>
          <p:nvPr/>
        </p:nvSpPr>
        <p:spPr>
          <a:xfrm>
            <a:off x="4425840" y="4616280"/>
            <a:ext cx="1054080" cy="10544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the pH of a solution of 0.20 M pyridine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Kb = 1.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9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57913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ok Antiqua"/>
              </a:rPr>
              <a:t>P706#8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olyprotic acid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lways dissociate stepwis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first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comes of much easier than the secon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a for the first step is much bigger than Ka for the secon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noted K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, K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, K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olyprotic aci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+ H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4.3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7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+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4.3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10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se in first step is acid in secon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 calculations we can normally ignore the second dissocia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514600" y="1311120"/>
            <a:ext cx="839880" cy="443160"/>
            <a:chOff x="2514600" y="1311120"/>
            <a:chExt cx="839880" cy="443160"/>
          </a:xfrm>
        </p:grpSpPr>
        <p:sp>
          <p:nvSpPr>
            <p:cNvPr id="212" name=""/>
            <p:cNvSpPr/>
            <p:nvPr/>
          </p:nvSpPr>
          <p:spPr>
            <a:xfrm>
              <a:off x="2514600" y="131112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528" y="96"/>
                  </a:lnTo>
                  <a:lnTo>
                    <a:pt x="384" y="0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14600" y="160020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52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514600" y="2378160"/>
            <a:ext cx="839880" cy="442800"/>
            <a:chOff x="2514600" y="2378160"/>
            <a:chExt cx="839880" cy="442800"/>
          </a:xfrm>
        </p:grpSpPr>
        <p:sp>
          <p:nvSpPr>
            <p:cNvPr id="215" name=""/>
            <p:cNvSpPr/>
            <p:nvPr/>
          </p:nvSpPr>
          <p:spPr>
            <a:xfrm>
              <a:off x="2514600" y="237816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528" y="96"/>
                  </a:lnTo>
                  <a:lnTo>
                    <a:pt x="384" y="0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4600" y="266688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52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e the Concen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f all the ions in a solution of 0.20 M Arsenic acid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5.0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ook Antiqua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8.0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ook Antiqua"/>
              </a:rPr>
              <a:t>-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6.0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ook Antiqua"/>
              </a:rPr>
              <a:t>-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43800" y="59436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ok Antiqua"/>
              </a:rPr>
              <a:t>P707#9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lfuric acid is specia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 first step it is a strong aci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1.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the concentrations in a 1.0 M solution of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"/>
          <p:cNvSpPr/>
          <p:nvPr/>
        </p:nvSpPr>
        <p:spPr>
          <a:xfrm>
            <a:off x="7315200" y="579132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ok Antiqua"/>
              </a:rPr>
              <a:t>P685#14.1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alts as acids an ba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alts are ionic compound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alts of the cation of strong bases and the anion of strong acids are neutral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r example NaCl, K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re is no equilibrium for strong acids and bas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e ignore the reverse reac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ronsted-Lowry Defini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d acid is an proton (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donor and a base is a proton accepto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cids and bases always come in pair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Cl is an aci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en it dissolves in water it gives its proton to wate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Cl(g)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(l)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+ 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ater is a base making hydronium 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191120" y="4876920"/>
            <a:ext cx="915840" cy="230040"/>
            <a:chOff x="4191120" y="4876920"/>
            <a:chExt cx="915840" cy="230040"/>
          </a:xfrm>
        </p:grpSpPr>
        <p:sp>
          <p:nvSpPr>
            <p:cNvPr id="55" name=""/>
            <p:cNvSpPr/>
            <p:nvPr/>
          </p:nvSpPr>
          <p:spPr>
            <a:xfrm>
              <a:off x="4191120" y="4876920"/>
              <a:ext cx="915840" cy="77760"/>
            </a:xfrm>
            <a:custGeom>
              <a:avLst/>
              <a:gdLst/>
              <a:ahLst/>
              <a:rect l="l" t="t" r="r" b="b"/>
              <a:pathLst>
                <a:path w="577" h="49">
                  <a:moveTo>
                    <a:pt x="0" y="48"/>
                  </a:moveTo>
                  <a:lnTo>
                    <a:pt x="576" y="48"/>
                  </a:lnTo>
                  <a:lnTo>
                    <a:pt x="43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5029200"/>
              <a:ext cx="915840" cy="77760"/>
            </a:xfrm>
            <a:custGeom>
              <a:avLst/>
              <a:gdLst/>
              <a:ahLst/>
              <a:rect l="l" t="t" r="r" b="b"/>
              <a:pathLst>
                <a:path w="577" h="49">
                  <a:moveTo>
                    <a:pt x="576" y="0"/>
                  </a:moveTo>
                  <a:lnTo>
                    <a:pt x="0" y="0"/>
                  </a:lnTo>
                  <a:lnTo>
                    <a:pt x="144" y="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sic Sal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the anion of a salt is the conjugate base of a weak acid = basic solu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 an aqueous solution of NaF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major species are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, 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, and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F +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lnSpc>
                <a:spcPct val="11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[HF]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lnSpc>
                <a:spcPct val="11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ut Ka = [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 [HF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4495680"/>
            <a:ext cx="2209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5715000"/>
            <a:ext cx="2133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971800" y="3429000"/>
            <a:ext cx="1144440" cy="230040"/>
            <a:chOff x="2971800" y="3429000"/>
            <a:chExt cx="1144440" cy="230040"/>
          </a:xfrm>
        </p:grpSpPr>
        <p:sp>
          <p:nvSpPr>
            <p:cNvPr id="230" name=""/>
            <p:cNvSpPr/>
            <p:nvPr/>
          </p:nvSpPr>
          <p:spPr>
            <a:xfrm>
              <a:off x="3048120" y="3429000"/>
              <a:ext cx="1068120" cy="77760"/>
            </a:xfrm>
            <a:custGeom>
              <a:avLst/>
              <a:gdLst/>
              <a:ahLst/>
              <a:rect l="l" t="t" r="r" b="b"/>
              <a:pathLst>
                <a:path w="673" h="49">
                  <a:moveTo>
                    <a:pt x="0" y="48"/>
                  </a:moveTo>
                  <a:lnTo>
                    <a:pt x="672" y="48"/>
                  </a:lnTo>
                  <a:lnTo>
                    <a:pt x="528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71800" y="3581280"/>
              <a:ext cx="1068480" cy="77760"/>
            </a:xfrm>
            <a:custGeom>
              <a:avLst/>
              <a:gdLst/>
              <a:ahLst/>
              <a:rect l="l" t="t" r="r" b="b"/>
              <a:pathLst>
                <a:path w="673" h="49">
                  <a:moveTo>
                    <a:pt x="672" y="0"/>
                  </a:moveTo>
                  <a:lnTo>
                    <a:pt x="0" y="0"/>
                  </a:lnTo>
                  <a:lnTo>
                    <a:pt x="144" y="48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sic Sal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x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[HF]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x    [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F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1828800"/>
            <a:ext cx="2057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1828800"/>
            <a:ext cx="190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sic Sal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x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[HF]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x    [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F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1828800"/>
            <a:ext cx="2057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828800"/>
            <a:ext cx="190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1219320"/>
            <a:ext cx="1143000" cy="609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1752480"/>
            <a:ext cx="1143000" cy="609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sic Sal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x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[HF]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x    [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F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1828800"/>
            <a:ext cx="2057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7280" y="1828800"/>
            <a:ext cx="190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1752480"/>
            <a:ext cx="1143000" cy="609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629040" y="1219320"/>
            <a:ext cx="1143000" cy="609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352320" y="1676520"/>
            <a:ext cx="1143000" cy="609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1219320"/>
            <a:ext cx="1143000" cy="609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sic Sal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x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[HF]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x   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F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x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1828800"/>
            <a:ext cx="2057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1828800"/>
            <a:ext cx="190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72200" y="1752480"/>
            <a:ext cx="1143000" cy="609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6629040" y="1219320"/>
            <a:ext cx="1143000" cy="609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352320" y="1676520"/>
            <a:ext cx="1143000" cy="609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1219320"/>
            <a:ext cx="1143000" cy="609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sic Sal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x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[HF]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x   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F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x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x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828800"/>
            <a:ext cx="2057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828800"/>
            <a:ext cx="190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72200" y="1752480"/>
            <a:ext cx="1143000" cy="609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629040" y="1219320"/>
            <a:ext cx="1143000" cy="609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352320" y="1676520"/>
            <a:ext cx="1143000" cy="609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66880" y="1219320"/>
            <a:ext cx="1143000" cy="609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85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tells us K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anion of a weak acid is a semi-strong bas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lculate the pH of a solution of 0.050M NaCN. Ka of HCN is 6.2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</a:rPr>
              <a:t>-10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C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on competes with 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for the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"/>
          <p:cNvSpPr/>
          <p:nvPr/>
        </p:nvSpPr>
        <p:spPr>
          <a:xfrm>
            <a:off x="7315200" y="586728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ok Antiqua"/>
              </a:rPr>
              <a:t>P707#105b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cidic sal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salt with the cation of a weak base and the anion of a strong acid will be basic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same development as bases leads to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x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W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the pH of a solution of 0.40 M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 (the 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of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1.8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5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ther acidic salts are those of highly charged metal ion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the pH of a solution of 0.10 M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 (the 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of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1.8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5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61722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ok Antiqua"/>
              </a:rPr>
              <a:t>p69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ion of weak acid, cation of weak bas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&gt;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cidic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&lt;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sic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ir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General equation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A(aq)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(l)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aq) + 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cid + Base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jugate acid 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Conjugate ba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s is an equilibrium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Competition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for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Book Antiqua"/>
              </a:rPr>
              <a:t>between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 and 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 is a stronger base it takes the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quilibrium moves to righ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191120" y="1981080"/>
            <a:ext cx="763560" cy="230400"/>
            <a:chOff x="4191120" y="1981080"/>
            <a:chExt cx="763560" cy="230400"/>
          </a:xfrm>
        </p:grpSpPr>
        <p:sp>
          <p:nvSpPr>
            <p:cNvPr id="60" name=""/>
            <p:cNvSpPr/>
            <p:nvPr/>
          </p:nvSpPr>
          <p:spPr>
            <a:xfrm>
              <a:off x="4191120" y="1981080"/>
              <a:ext cx="763560" cy="77760"/>
            </a:xfrm>
            <a:custGeom>
              <a:avLst/>
              <a:gdLst/>
              <a:ahLst/>
              <a:rect l="l" t="t" r="r" b="b"/>
              <a:pathLst>
                <a:path w="481" h="49">
                  <a:moveTo>
                    <a:pt x="0" y="48"/>
                  </a:moveTo>
                  <a:lnTo>
                    <a:pt x="480" y="48"/>
                  </a:lnTo>
                  <a:lnTo>
                    <a:pt x="36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91120" y="2133720"/>
              <a:ext cx="763560" cy="77760"/>
            </a:xfrm>
            <a:custGeom>
              <a:avLst/>
              <a:gdLst/>
              <a:ahLst/>
              <a:rect l="l" t="t" r="r" b="b"/>
              <a:pathLst>
                <a:path w="481" h="49">
                  <a:moveTo>
                    <a:pt x="480" y="0"/>
                  </a:moveTo>
                  <a:lnTo>
                    <a:pt x="0" y="0"/>
                  </a:lnTo>
                  <a:lnTo>
                    <a:pt x="120" y="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352680" y="2666880"/>
            <a:ext cx="916200" cy="230400"/>
            <a:chOff x="3352680" y="2666880"/>
            <a:chExt cx="916200" cy="230400"/>
          </a:xfrm>
        </p:grpSpPr>
        <p:sp>
          <p:nvSpPr>
            <p:cNvPr id="63" name=""/>
            <p:cNvSpPr/>
            <p:nvPr/>
          </p:nvSpPr>
          <p:spPr>
            <a:xfrm>
              <a:off x="3352680" y="2666880"/>
              <a:ext cx="916200" cy="77760"/>
            </a:xfrm>
            <a:custGeom>
              <a:avLst/>
              <a:gdLst/>
              <a:ahLst/>
              <a:rect l="l" t="t" r="r" b="b"/>
              <a:pathLst>
                <a:path w="577" h="49">
                  <a:moveTo>
                    <a:pt x="0" y="48"/>
                  </a:moveTo>
                  <a:lnTo>
                    <a:pt x="576" y="48"/>
                  </a:lnTo>
                  <a:lnTo>
                    <a:pt x="43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52680" y="2819520"/>
              <a:ext cx="916200" cy="77760"/>
            </a:xfrm>
            <a:custGeom>
              <a:avLst/>
              <a:gdLst/>
              <a:ahLst/>
              <a:rect l="l" t="t" r="r" b="b"/>
              <a:pathLst>
                <a:path w="577" h="49">
                  <a:moveTo>
                    <a:pt x="576" y="0"/>
                  </a:moveTo>
                  <a:lnTo>
                    <a:pt x="0" y="0"/>
                  </a:lnTo>
                  <a:lnTo>
                    <a:pt x="144" y="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ucture and Acid base Properti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680" y="1804680"/>
            <a:ext cx="8053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y molecule with an H in it is a potential aci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stronger the X-H bond the less acidic (compare bond dissociation energies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more polar the X-H bond the stronger the acid (use electronegativities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more polar H-O-X bond -stronger aci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ength of oxyacid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more oxygen hooked to the central atom, the more acidic the hydroge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Cl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&gt; HCl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&gt; HCl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&gt; HCl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member that the H is attached to an oxygen atom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oxygens are electronegativ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ull electrons away from hydroge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09480" y="49536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ength of oxy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1595520"/>
            <a:ext cx="4421160" cy="2154240"/>
          </a:xfrm>
          <a:custGeom>
            <a:avLst/>
            <a:gdLst/>
            <a:ahLst/>
            <a:rect l="l" t="t" r="r" b="b"/>
            <a:pathLst>
              <a:path w="2785" h="1357">
                <a:moveTo>
                  <a:pt x="0" y="695"/>
                </a:moveTo>
                <a:lnTo>
                  <a:pt x="924" y="0"/>
                </a:lnTo>
                <a:lnTo>
                  <a:pt x="924" y="495"/>
                </a:lnTo>
                <a:lnTo>
                  <a:pt x="2784" y="492"/>
                </a:lnTo>
                <a:lnTo>
                  <a:pt x="2784" y="899"/>
                </a:lnTo>
                <a:lnTo>
                  <a:pt x="927" y="894"/>
                </a:lnTo>
                <a:lnTo>
                  <a:pt x="927" y="1356"/>
                </a:lnTo>
                <a:lnTo>
                  <a:pt x="0" y="695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4e4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24382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Book Antiqua"/>
              </a:rPr>
              <a:t>Electron D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886200" y="4286160"/>
            <a:ext cx="2362320" cy="579960"/>
            <a:chOff x="3886200" y="4286160"/>
            <a:chExt cx="2362320" cy="579960"/>
          </a:xfrm>
        </p:grpSpPr>
        <p:sp>
          <p:nvSpPr>
            <p:cNvPr id="284" name=""/>
            <p:cNvSpPr/>
            <p:nvPr/>
          </p:nvSpPr>
          <p:spPr>
            <a:xfrm>
              <a:off x="3886200" y="428616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C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00600" y="428616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38680" y="428616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57800" y="457524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19720" y="457524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09480" y="49536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ength of oxy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1595520"/>
            <a:ext cx="4421160" cy="2154240"/>
          </a:xfrm>
          <a:custGeom>
            <a:avLst/>
            <a:gdLst/>
            <a:ahLst/>
            <a:rect l="l" t="t" r="r" b="b"/>
            <a:pathLst>
              <a:path w="2785" h="1357">
                <a:moveTo>
                  <a:pt x="0" y="695"/>
                </a:moveTo>
                <a:lnTo>
                  <a:pt x="924" y="0"/>
                </a:lnTo>
                <a:lnTo>
                  <a:pt x="924" y="378"/>
                </a:lnTo>
                <a:lnTo>
                  <a:pt x="2784" y="492"/>
                </a:lnTo>
                <a:lnTo>
                  <a:pt x="2784" y="899"/>
                </a:lnTo>
                <a:lnTo>
                  <a:pt x="924" y="1089"/>
                </a:lnTo>
                <a:lnTo>
                  <a:pt x="927" y="1356"/>
                </a:lnTo>
                <a:lnTo>
                  <a:pt x="0" y="695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4e4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24382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Book Antiqua"/>
              </a:rPr>
              <a:t>Electron D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886200" y="4286160"/>
            <a:ext cx="2362320" cy="579960"/>
            <a:chOff x="3886200" y="4286160"/>
            <a:chExt cx="2362320" cy="579960"/>
          </a:xfrm>
        </p:grpSpPr>
        <p:sp>
          <p:nvSpPr>
            <p:cNvPr id="293" name=""/>
            <p:cNvSpPr/>
            <p:nvPr/>
          </p:nvSpPr>
          <p:spPr>
            <a:xfrm>
              <a:off x="3886200" y="428616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C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0600" y="428616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38680" y="428616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57800" y="457524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19720" y="457524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743200" y="4286160"/>
            <a:ext cx="53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457524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09480" y="49536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ength of oxy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886200" y="4286160"/>
            <a:ext cx="2362320" cy="579960"/>
            <a:chOff x="3886200" y="4286160"/>
            <a:chExt cx="2362320" cy="579960"/>
          </a:xfrm>
        </p:grpSpPr>
        <p:sp>
          <p:nvSpPr>
            <p:cNvPr id="302" name=""/>
            <p:cNvSpPr/>
            <p:nvPr/>
          </p:nvSpPr>
          <p:spPr>
            <a:xfrm>
              <a:off x="3886200" y="428616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C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00600" y="428616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38680" y="428616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57800" y="457524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19720" y="457524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048120" y="3505320"/>
            <a:ext cx="53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05320" y="396252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8120" y="5029200"/>
            <a:ext cx="53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505320" y="472428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1595520"/>
            <a:ext cx="4421160" cy="2154240"/>
          </a:xfrm>
          <a:custGeom>
            <a:avLst/>
            <a:gdLst/>
            <a:ahLst/>
            <a:rect l="l" t="t" r="r" b="b"/>
            <a:pathLst>
              <a:path w="2785" h="1357">
                <a:moveTo>
                  <a:pt x="0" y="695"/>
                </a:moveTo>
                <a:lnTo>
                  <a:pt x="924" y="0"/>
                </a:lnTo>
                <a:lnTo>
                  <a:pt x="924" y="225"/>
                </a:lnTo>
                <a:lnTo>
                  <a:pt x="2784" y="492"/>
                </a:lnTo>
                <a:lnTo>
                  <a:pt x="2784" y="899"/>
                </a:lnTo>
                <a:lnTo>
                  <a:pt x="924" y="1116"/>
                </a:lnTo>
                <a:lnTo>
                  <a:pt x="927" y="1356"/>
                </a:lnTo>
                <a:lnTo>
                  <a:pt x="0" y="695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4e4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95480" y="24382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Book Antiqua"/>
              </a:rPr>
              <a:t>Electron D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ength of oxyacid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886200" y="4286160"/>
            <a:ext cx="2362320" cy="579960"/>
            <a:chOff x="3886200" y="4286160"/>
            <a:chExt cx="2362320" cy="579960"/>
          </a:xfrm>
        </p:grpSpPr>
        <p:sp>
          <p:nvSpPr>
            <p:cNvPr id="315" name=""/>
            <p:cNvSpPr/>
            <p:nvPr/>
          </p:nvSpPr>
          <p:spPr>
            <a:xfrm>
              <a:off x="3886200" y="428616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C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00600" y="428616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38680" y="428616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457524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457524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3048120" y="3505320"/>
            <a:ext cx="53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05320" y="396252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43200" y="4286160"/>
            <a:ext cx="53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8120" y="5029200"/>
            <a:ext cx="53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57524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505320" y="472428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09680" y="1600200"/>
            <a:ext cx="4421160" cy="2135160"/>
          </a:xfrm>
          <a:custGeom>
            <a:avLst/>
            <a:gdLst/>
            <a:ahLst/>
            <a:rect l="l" t="t" r="r" b="b"/>
            <a:pathLst>
              <a:path w="2785" h="1345">
                <a:moveTo>
                  <a:pt x="0" y="692"/>
                </a:moveTo>
                <a:lnTo>
                  <a:pt x="928" y="0"/>
                </a:lnTo>
                <a:lnTo>
                  <a:pt x="924" y="141"/>
                </a:lnTo>
                <a:lnTo>
                  <a:pt x="2784" y="489"/>
                </a:lnTo>
                <a:lnTo>
                  <a:pt x="2784" y="896"/>
                </a:lnTo>
                <a:lnTo>
                  <a:pt x="924" y="1206"/>
                </a:lnTo>
                <a:lnTo>
                  <a:pt x="928" y="1344"/>
                </a:lnTo>
                <a:lnTo>
                  <a:pt x="0" y="692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4e4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24382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Book Antiqua"/>
              </a:rPr>
              <a:t>Electron D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ydrated meta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ighly charged metal ions pull the electrons of surrounding water molecules toward them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ke it easier for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to come off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0" name=""/>
          <p:cNvSpPr/>
          <p:nvPr/>
        </p:nvSpPr>
        <p:spPr>
          <a:xfrm>
            <a:off x="5372280" y="3243240"/>
            <a:ext cx="1242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24640" y="3238560"/>
            <a:ext cx="657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88120" y="2676600"/>
            <a:ext cx="657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88120" y="3772080"/>
            <a:ext cx="657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86440" y="3543480"/>
            <a:ext cx="48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0" y="3686040"/>
            <a:ext cx="343080" cy="300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858000" y="3022560"/>
            <a:ext cx="343080" cy="300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81920" y="3759120"/>
            <a:ext cx="2713680" cy="148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cid-Base Properties of Oxid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on-metal oxides dissolved in water can make acid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(g)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(l)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onic oxides dissolve in water to produce bas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O(s)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(l)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  Ca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00200"/>
            <a:ext cx="611280" cy="268560"/>
          </a:xfrm>
          <a:custGeom>
            <a:avLst/>
            <a:gdLst/>
            <a:ahLst/>
            <a:rect l="l" t="t" r="r" b="b"/>
            <a:pathLst>
              <a:path w="385" h="169">
                <a:moveTo>
                  <a:pt x="0" y="81"/>
                </a:moveTo>
                <a:lnTo>
                  <a:pt x="378" y="81"/>
                </a:lnTo>
                <a:lnTo>
                  <a:pt x="300" y="0"/>
                </a:lnTo>
                <a:lnTo>
                  <a:pt x="384" y="84"/>
                </a:lnTo>
                <a:lnTo>
                  <a:pt x="300" y="16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95880" y="4167360"/>
            <a:ext cx="610920" cy="268200"/>
          </a:xfrm>
          <a:custGeom>
            <a:avLst/>
            <a:gdLst/>
            <a:ahLst/>
            <a:rect l="l" t="t" r="r" b="b"/>
            <a:pathLst>
              <a:path w="385" h="169">
                <a:moveTo>
                  <a:pt x="0" y="81"/>
                </a:moveTo>
                <a:lnTo>
                  <a:pt x="378" y="81"/>
                </a:lnTo>
                <a:lnTo>
                  <a:pt x="300" y="0"/>
                </a:lnTo>
                <a:lnTo>
                  <a:pt x="384" y="84"/>
                </a:lnTo>
                <a:lnTo>
                  <a:pt x="300" y="16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ewis Acids and Ba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86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ost general defini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cids are electron pair acceptor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ses are electron pair donor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4" name=""/>
          <p:cNvSpPr/>
          <p:nvPr/>
        </p:nvSpPr>
        <p:spPr>
          <a:xfrm>
            <a:off x="2228760" y="400536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38400" y="400536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38200" y="459108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38200" y="318600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43120" y="4325760"/>
            <a:ext cx="4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90640" y="3649680"/>
            <a:ext cx="490680" cy="43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790640" y="4385880"/>
            <a:ext cx="490680" cy="43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14760" y="4024440"/>
            <a:ext cx="804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95760" y="475776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95760" y="323856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81520" y="403848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81480" y="4359240"/>
            <a:ext cx="4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53040" y="3772080"/>
            <a:ext cx="476280" cy="349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91120" y="4581360"/>
            <a:ext cx="476280" cy="349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ewis Acids and Ba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oron triflouride wants more electron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0" name=""/>
          <p:cNvSpPr/>
          <p:nvPr/>
        </p:nvSpPr>
        <p:spPr>
          <a:xfrm>
            <a:off x="2228760" y="400536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38400" y="400536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38200" y="459108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438200" y="318600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43120" y="4325760"/>
            <a:ext cx="4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90640" y="3649680"/>
            <a:ext cx="490680" cy="43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790640" y="4385880"/>
            <a:ext cx="490680" cy="43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14760" y="4024440"/>
            <a:ext cx="804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95760" y="475776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95760" y="323856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81520" y="403848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81480" y="4359240"/>
            <a:ext cx="4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153040" y="3772080"/>
            <a:ext cx="476280" cy="349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91120" y="4581360"/>
            <a:ext cx="476280" cy="349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3408480"/>
            <a:ext cx="2101320" cy="1313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169938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1699383"/>
              </a:path>
            </a:pathLst>
          </a:custGeom>
          <a:noFill/>
          <a:ln cap="rnd" w="255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113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cid dissociation constant K</a:t>
            </a:r>
            <a:r>
              <a:rPr b="0" lang="en-US" sz="6000" spc="-1" strike="noStrike" baseline="-25000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equilibrium constant for the general equa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A(aq)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(l)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aq) + 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[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A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is often written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ignoring the water in equation (it is implied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267080" y="2514600"/>
            <a:ext cx="763560" cy="230040"/>
            <a:chOff x="4267080" y="2514600"/>
            <a:chExt cx="763560" cy="230040"/>
          </a:xfrm>
        </p:grpSpPr>
        <p:sp>
          <p:nvSpPr>
            <p:cNvPr id="68" name=""/>
            <p:cNvSpPr/>
            <p:nvPr/>
          </p:nvSpPr>
          <p:spPr>
            <a:xfrm>
              <a:off x="4267080" y="2514600"/>
              <a:ext cx="763560" cy="77760"/>
            </a:xfrm>
            <a:custGeom>
              <a:avLst/>
              <a:gdLst/>
              <a:ahLst/>
              <a:rect l="l" t="t" r="r" b="b"/>
              <a:pathLst>
                <a:path w="481" h="49">
                  <a:moveTo>
                    <a:pt x="0" y="48"/>
                  </a:moveTo>
                  <a:lnTo>
                    <a:pt x="480" y="48"/>
                  </a:lnTo>
                  <a:lnTo>
                    <a:pt x="36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67080" y="2666880"/>
              <a:ext cx="763560" cy="77760"/>
            </a:xfrm>
            <a:custGeom>
              <a:avLst/>
              <a:gdLst/>
              <a:ahLst/>
              <a:rect l="l" t="t" r="r" b="b"/>
              <a:pathLst>
                <a:path w="481" h="49">
                  <a:moveTo>
                    <a:pt x="480" y="0"/>
                  </a:moveTo>
                  <a:lnTo>
                    <a:pt x="0" y="0"/>
                  </a:lnTo>
                  <a:lnTo>
                    <a:pt x="120" y="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828800" y="3581280"/>
            <a:ext cx="2362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ewis Acids and Ba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oron triflouride wants more electron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is Lewis acid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is a Lewis Base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7" name=""/>
          <p:cNvSpPr/>
          <p:nvPr/>
        </p:nvSpPr>
        <p:spPr>
          <a:xfrm>
            <a:off x="3600360" y="406224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81200" y="394812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09800" y="464832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09800" y="324324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971800" y="4311360"/>
            <a:ext cx="60012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62240" y="3706920"/>
            <a:ext cx="490680" cy="43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162240" y="4443480"/>
            <a:ext cx="490680" cy="43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14840" y="4067280"/>
            <a:ext cx="80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95760" y="475776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95760" y="323856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681520" y="4038480"/>
            <a:ext cx="52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4359240"/>
            <a:ext cx="4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153040" y="3772080"/>
            <a:ext cx="476280" cy="349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091120" y="4581360"/>
            <a:ext cx="476280" cy="349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05440" y="4368960"/>
            <a:ext cx="48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ewis Acids and Ba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57480" y="2171880"/>
            <a:ext cx="11858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l</a:t>
            </a:r>
            <a:r>
              <a:rPr b="0" lang="en-US" sz="4800" spc="-1" strike="noStrike" baseline="30000">
                <a:solidFill>
                  <a:srgbClr val="ffffff"/>
                </a:solidFill>
                <a:latin typeface="Book Antiqua"/>
              </a:rPr>
              <a:t>+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06280" y="1550880"/>
            <a:ext cx="67716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ffff"/>
                </a:solidFill>
                <a:latin typeface="Book Antiqua"/>
              </a:rPr>
              <a:t>(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5400720" y="1542960"/>
            <a:ext cx="1071360" cy="2222640"/>
            <a:chOff x="5400720" y="1542960"/>
            <a:chExt cx="1071360" cy="2222640"/>
          </a:xfrm>
        </p:grpSpPr>
        <p:sp>
          <p:nvSpPr>
            <p:cNvPr id="396" name=""/>
            <p:cNvSpPr/>
            <p:nvPr/>
          </p:nvSpPr>
          <p:spPr>
            <a:xfrm>
              <a:off x="5400720" y="1542960"/>
              <a:ext cx="600120" cy="20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0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900" spc="-1" strike="noStrike">
                  <a:solidFill>
                    <a:srgbClr val="ffffff"/>
                  </a:solidFill>
                  <a:latin typeface="Book Antiqua"/>
                </a:rPr>
                <a:t>)</a:t>
              </a:r>
              <a:endParaRPr b="0" lang="en-US" sz="1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00680" y="3186000"/>
              <a:ext cx="671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952880" y="1881360"/>
            <a:ext cx="54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33800" y="2890800"/>
            <a:ext cx="543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62480" y="2405160"/>
            <a:ext cx="54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738680" y="2224080"/>
            <a:ext cx="271440" cy="27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34000" y="2846520"/>
            <a:ext cx="271440" cy="27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63920" y="2482920"/>
            <a:ext cx="73080" cy="6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78400" y="2397240"/>
            <a:ext cx="73080" cy="6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44840" y="2797200"/>
            <a:ext cx="73080" cy="6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87760" y="2901960"/>
            <a:ext cx="73080" cy="6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19520" y="4748040"/>
            <a:ext cx="1185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91880" y="3965400"/>
            <a:ext cx="67716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ffff"/>
                </a:solidFill>
                <a:latin typeface="Book Antiqua"/>
              </a:rPr>
              <a:t>(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86320" y="3957480"/>
            <a:ext cx="1071720" cy="2223360"/>
            <a:chOff x="5386320" y="3957480"/>
            <a:chExt cx="1071720" cy="2223360"/>
          </a:xfrm>
        </p:grpSpPr>
        <p:sp>
          <p:nvSpPr>
            <p:cNvPr id="410" name=""/>
            <p:cNvSpPr/>
            <p:nvPr/>
          </p:nvSpPr>
          <p:spPr>
            <a:xfrm>
              <a:off x="5386320" y="3957480"/>
              <a:ext cx="600120" cy="20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0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900" spc="-1" strike="noStrike">
                  <a:solidFill>
                    <a:srgbClr val="ffffff"/>
                  </a:solidFill>
                  <a:latin typeface="Book Antiqua"/>
                </a:rPr>
                <a:t>)</a:t>
              </a:r>
              <a:endParaRPr b="0" lang="en-US" sz="1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86280" y="5600880"/>
              <a:ext cx="671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938840" y="4295880"/>
            <a:ext cx="54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919760" y="5305320"/>
            <a:ext cx="54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48080" y="4819680"/>
            <a:ext cx="54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724280" y="4638600"/>
            <a:ext cx="271440" cy="27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19600" y="5261040"/>
            <a:ext cx="271440" cy="27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25840" y="4802040"/>
            <a:ext cx="73080" cy="6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78480" y="4792680"/>
            <a:ext cx="72720" cy="6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86280" y="2228760"/>
            <a:ext cx="1000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+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24400" y="5114880"/>
            <a:ext cx="904680" cy="9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47960" y="3976560"/>
            <a:ext cx="306360" cy="2192400"/>
          </a:xfrm>
          <a:custGeom>
            <a:avLst/>
            <a:gdLst/>
            <a:ahLst/>
            <a:rect l="l" t="t" r="r" b="b"/>
            <a:pathLst>
              <a:path w="193" h="1381">
                <a:moveTo>
                  <a:pt x="192" y="0"/>
                </a:moveTo>
                <a:lnTo>
                  <a:pt x="0" y="0"/>
                </a:lnTo>
                <a:lnTo>
                  <a:pt x="0" y="1380"/>
                </a:lnTo>
                <a:lnTo>
                  <a:pt x="174" y="138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972040" y="3986280"/>
            <a:ext cx="306360" cy="2192400"/>
          </a:xfrm>
          <a:custGeom>
            <a:avLst/>
            <a:gdLst/>
            <a:ahLst/>
            <a:rect l="l" t="t" r="r" b="b"/>
            <a:pathLst>
              <a:path w="193" h="1381">
                <a:moveTo>
                  <a:pt x="0" y="0"/>
                </a:moveTo>
                <a:lnTo>
                  <a:pt x="192" y="0"/>
                </a:lnTo>
                <a:lnTo>
                  <a:pt x="192" y="1380"/>
                </a:lnTo>
                <a:lnTo>
                  <a:pt x="18" y="138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38800" y="3676680"/>
            <a:ext cx="657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+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113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cid dissociation constant K</a:t>
            </a:r>
            <a:r>
              <a:rPr b="0" lang="en-US" sz="6000" spc="-1" strike="noStrike" baseline="-25000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A(aq)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aq) + 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[HA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e can write the expression for any aci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trong acids dissociate completely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quilibrium far to righ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jugate base must be weak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90920" y="1447920"/>
            <a:ext cx="763560" cy="230040"/>
            <a:chOff x="2590920" y="1447920"/>
            <a:chExt cx="763560" cy="230040"/>
          </a:xfrm>
        </p:grpSpPr>
        <p:sp>
          <p:nvSpPr>
            <p:cNvPr id="74" name=""/>
            <p:cNvSpPr/>
            <p:nvPr/>
          </p:nvSpPr>
          <p:spPr>
            <a:xfrm>
              <a:off x="2590920" y="1447920"/>
              <a:ext cx="763560" cy="77760"/>
            </a:xfrm>
            <a:custGeom>
              <a:avLst/>
              <a:gdLst/>
              <a:ahLst/>
              <a:rect l="l" t="t" r="r" b="b"/>
              <a:pathLst>
                <a:path w="481" h="49">
                  <a:moveTo>
                    <a:pt x="0" y="48"/>
                  </a:moveTo>
                  <a:lnTo>
                    <a:pt x="480" y="48"/>
                  </a:lnTo>
                  <a:lnTo>
                    <a:pt x="36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1600200"/>
              <a:ext cx="763560" cy="77760"/>
            </a:xfrm>
            <a:custGeom>
              <a:avLst/>
              <a:gdLst/>
              <a:ahLst/>
              <a:rect l="l" t="t" r="r" b="b"/>
              <a:pathLst>
                <a:path w="481" h="49">
                  <a:moveTo>
                    <a:pt x="480" y="0"/>
                  </a:moveTo>
                  <a:lnTo>
                    <a:pt x="0" y="0"/>
                  </a:lnTo>
                  <a:lnTo>
                    <a:pt x="120" y="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905120" y="2514600"/>
            <a:ext cx="1752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7320" y="448920"/>
            <a:ext cx="7956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trong aci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lnSpc>
                <a:spcPct val="11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s lar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is equal to [HA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is a weaker base than wat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eak aci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s smal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&lt;&lt;&lt; [HA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is a stronger base than wat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7320" y="448920"/>
            <a:ext cx="7956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ypes of Acid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olyprotic Acids- more than 1 acidic hydrogen (diprotic, triprotic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xyacids - Proton is attached to the oxygen of an 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rganic acids contain the Carboxyl group -COOH with the H attached to 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Generally very weak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mphoteri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ehave as both an acid and a bas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ater autoioniz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(l)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aq) +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[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=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t 25ºC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= 1.0 x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1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 </a:t>
            </a: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aqueous solu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eutral solution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= 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= 1.0 x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7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cidic solution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&gt; 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sic solution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 &lt; [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90920" y="2362320"/>
            <a:ext cx="763560" cy="230040"/>
            <a:chOff x="2590920" y="2362320"/>
            <a:chExt cx="763560" cy="230040"/>
          </a:xfrm>
        </p:grpSpPr>
        <p:sp>
          <p:nvSpPr>
            <p:cNvPr id="85" name=""/>
            <p:cNvSpPr/>
            <p:nvPr/>
          </p:nvSpPr>
          <p:spPr>
            <a:xfrm>
              <a:off x="2590920" y="2362320"/>
              <a:ext cx="763560" cy="77760"/>
            </a:xfrm>
            <a:custGeom>
              <a:avLst/>
              <a:gdLst/>
              <a:ahLst/>
              <a:rect l="l" t="t" r="r" b="b"/>
              <a:pathLst>
                <a:path w="481" h="49">
                  <a:moveTo>
                    <a:pt x="0" y="48"/>
                  </a:moveTo>
                  <a:lnTo>
                    <a:pt x="480" y="48"/>
                  </a:lnTo>
                  <a:lnTo>
                    <a:pt x="36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2514600"/>
              <a:ext cx="763560" cy="77760"/>
            </a:xfrm>
            <a:custGeom>
              <a:avLst/>
              <a:gdLst/>
              <a:ahLst/>
              <a:rect l="l" t="t" r="r" b="b"/>
              <a:pathLst>
                <a:path w="481" h="49">
                  <a:moveTo>
                    <a:pt x="480" y="0"/>
                  </a:moveTo>
                  <a:lnTo>
                    <a:pt x="0" y="0"/>
                  </a:lnTo>
                  <a:lnTo>
                    <a:pt x="120" y="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3-26T09:44:46Z</dcterms:created>
  <dc:creator>Thomas V. Green Jr.</dc:creator>
  <dc:description/>
  <cp:keywords/>
  <dc:language>en-US</dc:language>
  <cp:lastModifiedBy>FPS</cp:lastModifiedBy>
  <dcterms:modified xsi:type="dcterms:W3CDTF">2008-12-05T18:33:10Z</dcterms:modified>
  <cp:revision>21</cp:revision>
  <dc:subject/>
  <dc:title>No Slide Title</dc:title>
</cp:coreProperties>
</file>